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9C3E-8E94-4D58-B72C-EC6ACB9D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91CF-0C36-4FD8-AF4B-FC6C8683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FECD-17A8-45E7-8797-F1F98AFC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C1EB-9EE0-482A-9457-89E13704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A633-F06E-48B5-8C21-1D564C9B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1623-B0B4-40C2-B0EF-BB8A7C6E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7F30-A4E1-49CB-8074-15B6DDD1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A864-9841-4A71-B363-9BC382DF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D473-6BB1-4B08-8C4F-F787F812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70F9-0507-4010-9A8A-3DF38C2A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D066-8937-4797-9FC6-710D08D2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807E-20F1-45FA-8FA0-5674957E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253F-FEE4-4E04-9287-39DB41B2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541B-C235-4DC4-8753-D8F9D8C7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F05E-AC25-48E8-9CD7-2C2812EC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2CBB-2B5C-45E8-8C65-B4C7ABCA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F999-F3B8-4620-9E1F-FA621D1E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878D-F2A6-4EAB-AE3E-3EA413A4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A724-47FC-4DA4-A849-54D85897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FE2-1B4D-415B-ACF8-50D091CA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C6DD-1006-4B5F-8241-1F8E5BF9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D57C-B766-4963-8F78-8F90C562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F11D-D853-4982-965D-B76A802E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E92F-17A7-493A-B02C-9C00339B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1AB0-4E2F-4A51-BF6B-5D85EC5BAB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3753-603F-4CC4-A722-23C1AF20EF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style (200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.O. To understand how black people are represented in the 2009 fi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8880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are these characters? Which Stuart Hall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acteris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uld they fit into? Also what Propp character would they fit i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3860640"/>
            <a:ext cx="3527280" cy="2521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564000" y="3965400"/>
            <a:ext cx="2736720" cy="2414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443640" y="4003560"/>
            <a:ext cx="231768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ngs to look out for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s between different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v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alog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mbient sou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any stereotypes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tch the fil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take notes whilst watching the fil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how different groups of people are being represented in particular black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hey been put into the mediated stereotyp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think this is a true reflection of black people at the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eories could we app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lso consider mise-en-sce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al Expressions/body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se things as a whole contribute to the representation of black culture within the fil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presentation Babyl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the different representations you saw within the fi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3068640"/>
            <a:ext cx="4249800" cy="2448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3830760"/>
            <a:ext cx="29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ons in Free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have we learne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 representations you sa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 theory you could app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 the overall representation of black people in the film w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08:40:40Z</dcterms:created>
  <dc:creator>martinaos</dc:creator>
  <dc:description/>
  <dc:language>en-US</dc:language>
  <cp:lastModifiedBy>martinaos</cp:lastModifiedBy>
  <dcterms:modified xsi:type="dcterms:W3CDTF">2010-11-04T10:57:14Z</dcterms:modified>
  <cp:revision>8</cp:revision>
  <dc:subject/>
  <dc:title>Babylon (1980)</dc:title>
</cp:coreProperties>
</file>